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F85-42BA-4091-8C6A-1F370780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F31-670A-4AB3-A9ED-8E53FF4D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C52-85D8-4030-9CC0-6DDB6A72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340-4B69-49E2-AA03-5DAA7231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80A-062F-444C-AA58-02D513F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D13-0286-48F2-8C63-4926B9F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F6C-8D30-40E1-942E-A5E09F2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CBE-4FD9-416F-B066-CC23D2C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3A6-1647-46DC-94F0-DC51A1BE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3BC-E9DF-4BEB-92A7-5F1F128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09A-5858-4563-94C1-C67A7E3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0E9-AA9C-4274-A9EE-8D4B1C6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ABEF-E7E5-48BD-AC96-680554AF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1480" y="3038400"/>
            <a:ext cx="84582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o Has Better Eyes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By:Zane Nich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Problem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eorgia"/>
              </a:rPr>
              <a:t>I was wondering if boys or girls have better eyesight, you don't see very many girls with glasses, do you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ypothe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 predict that girls have better eyesight because I don't see very many girls with glasses. It makes more sense that girls would have better eyesight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606600"/>
            <a:ext cx="9669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Material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yesight test pa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Volunteers from both gend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ncil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y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.    Gather Materials and Volunte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2.    Test Volunte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3.    Record Data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4.    Make result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5.   Report 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esul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 hypothesis was correct. Girls have slightly better eyesight than boy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onclusion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Girls have just barely have better eyesight than boys but I think that they are very close to the same. When I was figuring out the results, I thought for a moment that they would be the same. Yes, girls have better eye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D376</cp:lastModifiedBy>
  <dcterms:modified xsi:type="dcterms:W3CDTF">2011-03-28T13:45:30Z</dcterms:modified>
  <cp:revision>1</cp:revision>
  <dc:subject/>
  <dc:title>PowerPoint Presentation</dc:title>
</cp:coreProperties>
</file>